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639-AA6F-48C5-9C5F-D1A7AFE8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10D-E9DB-46EA-8AFB-864B6C74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4FF-1634-4753-959E-159A515D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B82-3798-42F6-BED9-F667F7D9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66DD-139E-46C7-AA7F-028210C8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82B9-BF04-4BB5-976D-B3046B3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2827-FED2-4413-ABA4-E6D6A18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6DF9-AA0B-4AFB-9832-207B4C23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5B7E-B523-48BB-8B76-FCA7D20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039A-2A6F-40DE-B582-0E2E9350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63F-BFED-4B70-8418-2EF4F06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2FF-3177-485B-AC91-19BB416D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6C3D-C087-451C-9FA4-B8AC725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402E-3761-49D6-81CB-82EB665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7D0-8D3D-480A-9656-C801BFC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77D-7375-4674-8B23-E86E6EDC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967-CF75-447F-AB3B-A30AF8AE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B2C-213B-4512-B82A-C5B92A1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D3A-3937-4619-9EE1-84F8238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91C-44AC-4D13-8FB4-4ED0D3B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B15-17AD-4CFF-8BA2-8ED6E8BB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27E-4F76-44D5-B9E3-99DFCB8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08A-A03E-4867-8E4E-25AACCB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073-9335-498A-9D73-2664364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0E2-15A5-4545-B04A-519B8D3A8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123E-C86E-48E4-9E10-3FE2F31515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pcevrf.ucoz.ru/1/5484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tatic.insales.ru/images/products/1/2151/149607/large/978-5-9957-0159-0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ome-edu.ru/user/uatml/00000900/2kurs/ur7/3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ovrov-online.ru/docs/img/277_1020p01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dm-gavrilovposad.ru/img/ush/002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767960"/>
            <a:ext cx="8136000" cy="266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МУНИЦИПАЛЬНОЕ</a:t>
            </a:r>
            <a:br>
              <a:rPr sz="6600"/>
            </a:b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 ПРАВО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опрос 2.</a:t>
            </a:r>
            <a:r>
              <a:rPr b="1" lang="ru-RU" sz="1800" spc="-1" strike="noStrike">
                <a:solidFill>
                  <a:srgbClr val="dbbd71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Муниципально-правовые нормы и институт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ификацию муниципально – правовых норм можно провести по следующим основания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объекту правового регулиров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е. по кругу регулируемых отношений, муниципально-правовые нормы делятся на закрепляющ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 в системе народовластия (понятие, принципы, функ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деятельности МСУ (территориальная, организационная, финансово-экономическа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ы ведения и полномочия МСУ; гаранти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ственность ОМСУ и должностных лиц МС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79280" y="1413000"/>
            <a:ext cx="8785440" cy="129528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ые нормы, закрепляющие и регулирующие общественные отнош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никающие в процессе организации и деятельности мест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управления, называются муниципально-правовыми норм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998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998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998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998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4998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6998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характеру предписа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управомочивающие (нормы-разрешения, устанавливающие, что можно делать, например, определяющие предметы ведения МСУ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ывающие (содержащие предписания, что нужно дела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рещающие (нормы-запреты, устанавливающие, что нельзя дела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территории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федеральные (действуют на территории Росс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йствующие на территории субъе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местные (действующие в пределах отдельного муниципального образовани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источника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е по характеру актов, в которых содержатся нормы муниципального пра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на федеральном уровн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на уровне субъектов Федер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и на уровне муниципальных образо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оме того, различают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атериально-правовые и процессуальные нормы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териально-правовые нормы закрепляют полномочия ОМСУ и должностных лиц МСУ, права и обязанности граждан, других субъектов муниципального права. Процессуальные нормы определяют порядок (процедуру) выборов и деятельности органов местного самоуправления, порядок принятия решений непосредственно населением муниципальных образований, процедуру реализации права населения на правотворческую инициативу в вопросах местного значени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ификация норм муниципального права возможна не только по их видам, но и по муниципально-правовым института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авовой инстит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 муниципальном праве представляет собой совокупность муниципально-правовых норм, регулирующих определенный круг взаимосвязанных общественных отношений, которые образуют в рамках предмета муниципального права самостоятельную, обособленную группу. В качестве примера можно привести основы деятельности МСУ. Это довольно сложный институт, который состоит из более простых образований: института территориальной основы МСУ, института муниципальной собственности, института муниципальной служ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опрос 3.  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Источники отрасли 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    муниципальное право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жно выделить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ри групп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сточников муниципального права с учетом различных уровней правового регулирования муниципальных отношен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 нормативно-правовые акты (НПА)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имаемые на федеральном уровн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ституция РФ; -   ФЗ №131 «Об общих принцип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и местного самоуправ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оссийской Федерации» от 06.10.2003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Европейская хартия МС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казы Президент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становления Правительств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также  нормативно-правовые акт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их федеральных органов исполнитель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Картинка 7 из 1008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54360"/>
            <a:ext cx="1800000" cy="230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Картинка 4 из 11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4005360"/>
            <a:ext cx="1656000" cy="230328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0"/>
          <p:cNvSpPr/>
          <p:nvPr/>
        </p:nvSpPr>
        <p:spPr>
          <a:xfrm>
            <a:off x="0" y="1125360"/>
            <a:ext cx="9144000" cy="136692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сточника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униципального права являются правовые акты, в котор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авливаются, изменяются или отменяются правовые нормы, направле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регулирование муниципальных отношени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торую группу источников составляют НПА, принимаемые органам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ой власти субъектов Федер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ституции республи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ставы других субъектов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Законы субъектов Федерации о МСУ, о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й службе, о муниципальных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орах, о местном референдуме, а также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ы президентов республик, гла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ций других субъекто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ции, постановления законодатель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редставительных) органов государств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сти  субъектов Федерации, акт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ст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Картинка 102 из 2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00280"/>
            <a:ext cx="3097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ретью группу источников входят НПА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ятые путем прямого волеизъявления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еления муниципальных образований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ами МСУ и должностными лицам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(Уставы муниципальных образований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еобязательные правила по предметам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ения муниципального образования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ятие которых предусматривает уста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ого обра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Картинка 22 из 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280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Вопрос 4.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dbbd71"/>
                </a:solidFill>
                <a:latin typeface="Times New Roman"/>
              </a:rPr>
              <a:t>Муниципальное право как наук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ая наука имеет свои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етоды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ния, то есть совокупность приемов и способов, с помощью которых получаются знания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и подразделяются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бщенаучны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тоды познания (диалектико-материалистический, системный, социологический), и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равнительного правоведения, нормативно-логический, структурно-функциональный, историко-юридический, метод перехода от общего к частному, от абстрактного к конкретном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аучные методы используются, например, при рассмотр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анализе понятия местного самоуправления, его политико-прав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оды, раскрытии сущности местного самоуправления. Анализ системы местного самоуправления, раскрытие элементов и установление взаимосвязей проводятся с помощью специальных методов, в перв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чередь метода сравнительного правоведения, нормативно-логического. Взаимоотношения между органами местного самоуправления определяются при помощи анализа правовых актов, закрепляющих их правовой статус, практики функционирования. Анализ нормативно-правовой базы субъектов Российской Федерации и муниципальных образований позволяет выявить некоторые тенденции, сделать об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0" y="981000"/>
            <a:ext cx="9144000" cy="115272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право как наука  –   это совокупность знаний, теорет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глядов, идей о возникновении, развитии, функционировании и будущ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ого самоу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Вопрос 5. </a:t>
            </a: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Муниципальное право как 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     учебная дисциплин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ая дисциплина имеет свою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истему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 которой понимается логическая последовательность теоретических положений, знаний, составляющих ее содерж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так, система учебной дисциплины муниципального права включает следующие структурные ча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ведение в муниципальное пра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 в системе народовлас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МСУ: территориальные, организационные и финансово-экономическ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ы ведения и полномочия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ранти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ственность ОМСУ и должностных лиц МСУ. Контроль за их деятель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1484280"/>
            <a:ext cx="9144000" cy="151308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право как учебная дисциплина – это совокупность знан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даваемых студентам в процессе обучения в вузе, которые включают в себ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более существенные вопросы, связанные с организацией и деятельност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ого самоу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МУНИЦИПАЬНОЕ ПРАВО КАК ОТРАСЛЬ ПРАВА, НАУКА И УЧЕБНАЯ ДИСЦИПЛИН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едение в муниципальное пра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рмин «Муниципальное право Российской Федерации» употребляется в трех основных значе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первых, так называется совокупность правовых норм, регулирующих определенную область общественных отношений и составляющих одну из отраслей системы права Российской Федер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вторых, так именуется научная дисциплина – совокупность научных теорий и знаний, обобщающих данную область общественных отношений, практику реализации норм муниципальн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-третьих, в соответствии с наименованием отрасли права и научной дисциплины муниципальным правом называется – учебная дисциплина, изучение которой предусматривается учебными планами юридических вуз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Вопрос 1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Понятие и предмет отрасли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Муниципальное пра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436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8"/>
          <p:cNvSpPr/>
          <p:nvPr/>
        </p:nvSpPr>
        <p:spPr>
          <a:xfrm rot="11014200">
            <a:off x="1618920" y="1699920"/>
            <a:ext cx="6053040" cy="1090440"/>
          </a:xfrm>
          <a:prstGeom prst="wedgeRoundRectCallout">
            <a:avLst>
              <a:gd name="adj1" fmla="val 71819"/>
              <a:gd name="adj2" fmla="val 80171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е отрасли «Муниципальное пра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3203640" y="270828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0" y="3805200"/>
            <a:ext cx="9144000" cy="305280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право Российской Федерации – это комплексн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ь права, представляющая собой совокупность правовых норм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репляющих и регулирующих общественные отношения, возникающи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е организации местного самоуправления и решения населени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ых образований непосредственно, через выборные и друг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ы местного самоуправления вопросов местного значения, а такж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е реализации отдельных государственных полномочий, котор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гут наделяться органы местного самоупра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467 C 2.77778E-007 -0.03399 0.03715 -0.02404 0.08472 -0.02404 C 0.12222 -0.02196 0.15295 -0.0289 0.15451 -0.03676 C 0.15451 -0.04416 0.12309 -0.04693 0.08542 -0.04693 C 0.06615 -0.04693 0.04861 -0.04693 0.03611 -0.0467 C 0.0184 -0.04416 0.00764 -0.0393 0.00764 -0.0326 C 0.00764 -0.0289 0.01094 -0.02404 0.01667 -0.02196 C 0.02969 -0.01387 0.05469 -0.01179 0.08351 -0.00878 C 0.11771 -0.00878 0.14549 -0.01387 0.14549 -0.02196 C 0.14635 -0.0289 0.1184 -0.03399 0.08472 -0.03399 C 0.06719 -0.03399 0.05191 -0.03399 0.03958 -0.0326 C 0.02465 -0.0289 0.01493 -0.02404 0.01493 -0.01711 C 0.01493 -0.01387 0.01771 -0.01179 0.0224 -0.00878 C 0.03437 -0.00439 0.05694 0.00093 0.08351 0.00093 C 0.11441 0.00324 0.13872 -0.00115 0.13872 -0.00878 C 0.13941 -0.01387 0.11476 -0.01896 0.08351 -0.02196 C 0.06823 -0.02196 0.05417 -0.01896 0.04392 -0.01896 C 0.02969 -0.01387 0.02135 -0.01179 0.02135 -0.00439 C 0.02135 -0.00115 0.02396 0.00093 0.02865 0.00324 C 0.03889 0.00971 0.05937 0.01203 0.08212 0.01457 C 0.11024 0.01457 0.13264 0.00971 0.13264 0.00324 C 0.13264 -0.00115 0.11059 -0.00624 0.08351 -0.00878 C 0.06962 -0.00878 0.05694 -0.00624 0.04722 -0.00624 C 0.03437 -0.00439 0.02674 0.00093 0.02622 0.00648 C 0.02622 0.00971 0.02969 0.01203 0.03333 0.01457 C 0.04236 0.01966 0.06146 0.02243 0.0816 0.02243 C 0.1066 0.02243 0.12726 0.01966 0.12726 0.01457 C 0.12795 0.00971 0.10747 0.00324 0.08212 0.00324 C 0.07049 0.00324 0.05868 0.00324 0.05035 0.00648 C 0.03889 0.00971 0.03212 0.01203 0.03212 0.01596 C 0.03212 0.01966 0.03368 0.02243 0.03715 0.02474 C 0.04583 0.02752 0.06215 0.03237 0.08142 0.03237 C 0.10417 0.03237 0.12222 0.02983 0.12222 0.02474 C 0.12292 0.01966 0.10469 0.01457 0.0816 0.01457 C 0.07118 0.01457 0.06146 0.01457 0.05347 0.01596 C 0.04323 0.01966 0.03715 0.02243 0.03715 0.02752 C 0.03715 0.02983 0.03889 0.02983 0.04219 0.03237 C 0.04913 0.03746 0.06424 0.04023 0.08142 0.04023 C 0.10191 0.04023 0.11771 0.03746 0.11771 0.03237 C 0.11771 0.02983 0.10243 0.02474 0.0816 0.02474 C 0.0717 0.02474 0.06215 0.02474 0.05521 0.02752 C 0.04583 0.02752 0.04045 0.03237 0.04045 0.03376 C 0.04045 0.03746 0.04236 0.03746 0.04566 0.04023 C 0.05243 0.04255 0.06615 0.0444 0.08073 0.04786 C 0.09948 0.04786 0.11441 0.0444 0.11441 0.04023 C 0.11441 0.03746 0.09948 0.03237 0.08142 0.03237 C 0.07292 0.03237 0.06424 0.03237 0.05799 0.03376 C 0.04913 0.03746 0.04444 0.04023 0.04444 0.04255 C 0.04444 0.0444 0.04583 0.0444 0.04861 0.04786 C 0.05469 0.04994 0.06649 0.05272 0.08073 0.05272 C 0.0967 0.05272 0.11024 0.04994 0.11024 0.04786 C 0.11024 0.0444 0.09687 0.04023 0.08073 0.04023 C 0.07309 0.04023 0.06545 0.04023 0.05972 0.04255 C 0.05243 0.0444 0.04792 0.04786 0.04792 0.04994 C 0.04792 0.05272 0.04913 0.05272 0.05191 0.05272 C 0.05747 0.05503 0.06771 0.05757 0.08073 0.05757 C 0.09514 0.05757 0.10747 0.05503 0.10747 0.05272 C 0.10747 0.04994 0.09514 0.04786 0.08073 0.04786 C 0.07309 0.04786 0.06649 0.04786 0.06215 0.04994 C 0.05469 0.04994 0.05069 0.05272 0.05069 0.05503 C 0.05069 0.05757 0.05243 0.05757 0.05417 0.05757 C 0.05937 0.0622 0.06892 0.0622 0.07986 0.06844 C 0.09375 0.06844 0.10417 0.0622 0.10417 0.06035 C 0.10417 0.05503 0.09375 0.05503 0.08073 0.05272 C 0.07396 0.05272 0.06771 0.05503 0.06337 0.05503 C 0.05747 0.05503 0.05347 0.05757 0.05347 0.06035 C 0.05347 0.0622 0.05469 0.0622 0.05694 0.06844 E">
                                      <p:cBhvr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Согласно ч.2 ст.1 Федерального закона от 6 октября 2003 г. №131-ФЗ «Об общих принципах организации местного самоуправления в Российской Федерации»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«Местное самоуправление в Российской Федерации – форма осуществления народом своей власти, обеспечивающая в пределах, установленных Конституцией Российской Федерации, федеральными законами, а в случаях, установленных федеральными законами, - законами субъектов Российской Федерации, самостоятельное и под свою ответственность решение населением непосредственно и (или) через органы местного самоуправления вопросов местного значения исходя из интересов населения с учетом исторических и иных местных традиций».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Статья 1 Закона определяет местное самоуправление как форму осуществления народом своей власти, которая согласно Конституции РФ осуществляется посредством двух основных ее форм: государственной власти и </a:t>
            </a: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ласти местного самоуправления (муниципальной власти).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Более полное представление о структуре предмета муниципального права дает выделение в нем следующих групп общественных отношений: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руппа общественных отношений, составляющих предмет муниципального прав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3" name="Diagram 8"/>
          <p:cNvGrpSpPr/>
          <p:nvPr/>
        </p:nvGrpSpPr>
        <p:grpSpPr>
          <a:xfrm>
            <a:off x="324000" y="1593720"/>
            <a:ext cx="7419960" cy="3997800"/>
            <a:chOff x="324000" y="1593720"/>
            <a:chExt cx="7419960" cy="3997800"/>
          </a:xfrm>
        </p:grpSpPr>
        <p:sp>
          <p:nvSpPr>
            <p:cNvPr id="164" name="_s1028"/>
            <p:cNvSpPr/>
            <p:nvPr/>
          </p:nvSpPr>
          <p:spPr>
            <a:xfrm>
              <a:off x="3851280" y="2276280"/>
              <a:ext cx="1431360" cy="14137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1029"/>
            <p:cNvSpPr/>
            <p:nvPr/>
          </p:nvSpPr>
          <p:spPr>
            <a:xfrm>
              <a:off x="3956760" y="1593720"/>
              <a:ext cx="16120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1. Отношения, возникающие в процессе осуществл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местного самоуправления гражданами путем прямого волеизъявления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1030"/>
            <p:cNvSpPr/>
            <p:nvPr/>
          </p:nvSpPr>
          <p:spPr>
            <a:xfrm>
              <a:off x="4356000" y="2924280"/>
              <a:ext cx="1431720" cy="141516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6131880" y="4583880"/>
              <a:ext cx="1612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          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. Отношения, возникающ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в связи  осуществлением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отдельных государственны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 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функц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3492000" y="2924280"/>
              <a:ext cx="1432800" cy="141372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324000" y="5157720"/>
              <a:ext cx="16120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2. Отношения, возникающие в связ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с осуществлением деятельности органов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местного самоуправления и должностны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лиц местного самоуправления по решени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вопросов местного значения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(в финансово-бюджетной сфере,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в сфере управления собственностью, и т.д.);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Отношения составляющие предмет муниципально-правового 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регулирования обладают определенными </a:t>
            </a:r>
            <a:r>
              <a:rPr b="0" i="1" lang="ru-RU" sz="2400" spc="-1" strike="noStrike">
                <a:solidFill>
                  <a:srgbClr val="dbbd71"/>
                </a:solidFill>
                <a:latin typeface="Times New Roman"/>
              </a:rPr>
              <a:t>признаками: </a:t>
            </a:r>
            <a:br>
              <a:rPr sz="2400"/>
            </a:b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о-первы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эти отношения имеют локально-территориальный характер;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о-вторы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данные отношения носят комплексный характер, так как связаны с реализацией задач и функций местного самоуправления во всех сферах местной жизни: экономической, бюджетно-финансовой, социально-культурной, охраны общественного порядка и др.;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-третьи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обязательным субъектом муниципально-правовых отношений выступает либо население муниципального образования, либо орган или должностное лицо местного самоуправл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639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Субъекты муниципально – правовых отношений можно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               разделить условно на три группы:</a:t>
            </a:r>
            <a:br>
              <a:rPr sz="24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- к первой группе относится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особый субъект –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муниципальное образование;     - ко второй группе относятся субъекты,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наделенные правом принимать решения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(участвовать в принятии решений) п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вопросам местно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значения (прежде все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население, собрания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(сходы) граждан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выборные и другие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органы местного самоуправления);                                                     </a:t>
            </a:r>
            <a:br>
              <a:rPr sz="20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- к третьей относятся субъекты, которые в той или иной форме содействуют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осуществлению местного самоуправления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(органы территориального общественно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самоуправления, ассоциации и союзы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муниципальных образований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государственные органы, общественные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объединения, предприятия, учреждения,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организации).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Picture 4" descr="моя администрация"/>
          <p:cNvPicPr/>
          <p:nvPr/>
        </p:nvPicPr>
        <p:blipFill>
          <a:blip r:embed="rId1"/>
          <a:stretch/>
        </p:blipFill>
        <p:spPr>
          <a:xfrm>
            <a:off x="539640" y="191628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выборы"/>
          <p:cNvPicPr/>
          <p:nvPr/>
        </p:nvPicPr>
        <p:blipFill>
          <a:blip r:embed="rId2"/>
          <a:stretch/>
        </p:blipFill>
        <p:spPr>
          <a:xfrm>
            <a:off x="6372360" y="2492280"/>
            <a:ext cx="2447640" cy="151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4 из 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72428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Методы правового регулирования муниципальных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                                 отношений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Муниципальное право, как и другие отрасли, воздействуют на общественные отношения с помощью таких правовых приемов (способов), как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предписание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дозволение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запрет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сочетание которых и определяет характер правового регулирования.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В зависимости от преобладания в отрасли права, того или иного правового приема различают два основных метода правового регулирования: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Императивны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Диспозитивны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.  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Кроме императивного и диспозитивного методов в муниципальном праве используется метод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гаранти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(применяется прежде всего на федеральном уровне правового регулирования местного самоуправления) и метод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рекомендаций 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(рекомендации в адрес органов местного самоуправления обычно содержится в указах Президента РФ, постановлениях Правительства РФ, а также в актах органов государственной власти субъектов Федерации).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8:07:43Z</dcterms:created>
  <dc:creator>www.MRMARKER.ru</dc:creator>
  <dc:description/>
  <dc:language>en-US</dc:language>
  <cp:lastModifiedBy>PackardBell</cp:lastModifiedBy>
  <dcterms:modified xsi:type="dcterms:W3CDTF">2023-10-25T16:05:56Z</dcterms:modified>
  <cp:revision>18</cp:revision>
  <dc:subject/>
  <dc:title>МУНИЦИПАЛЬНОЕ  ПРАВО</dc:title>
</cp:coreProperties>
</file>